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992379"/>
        <c:axId val="37561114"/>
      </c:scatterChart>
      <c:valAx>
        <c:axId val="2992379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561114"/>
        <c:crosses val="autoZero"/>
        <c:crossBetween val="midCat"/>
        <c:majorUnit val="1"/>
      </c:valAx>
      <c:valAx>
        <c:axId val="37561114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92379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35717165"/>
        <c:axId val="39127313"/>
      </c:scatterChart>
      <c:valAx>
        <c:axId val="35717165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127313"/>
        <c:crosses val="autoZero"/>
        <c:crossBetween val="midCat"/>
        <c:majorUnit val="1"/>
      </c:valAx>
      <c:valAx>
        <c:axId val="39127313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717165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72325616"/>
        <c:axId val="24135794"/>
      </c:scatterChart>
      <c:valAx>
        <c:axId val="72325616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4135794"/>
        <c:crosses val="autoZero"/>
        <c:crossBetween val="midCat"/>
        <c:majorUnit val="2"/>
        <c:minorUnit val="1"/>
      </c:valAx>
      <c:valAx>
        <c:axId val="24135794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2325616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54985939"/>
        <c:axId val="63808667"/>
      </c:scatterChart>
      <c:valAx>
        <c:axId val="5498593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808667"/>
        <c:crosses val="autoZero"/>
        <c:crossBetween val="midCat"/>
        <c:majorUnit val="2"/>
        <c:minorUnit val="0.05"/>
      </c:valAx>
      <c:valAx>
        <c:axId val="6380866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98593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33444640"/>
        <c:axId val="4012987"/>
      </c:scatterChart>
      <c:valAx>
        <c:axId val="3344464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12987"/>
        <c:crosses val="autoZero"/>
        <c:crossBetween val="midCat"/>
        <c:majorUnit val="2"/>
        <c:minorUnit val="0.05"/>
      </c:valAx>
      <c:valAx>
        <c:axId val="401298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44464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0455021"/>
        <c:axId val="33981413"/>
      </c:scatterChart>
      <c:valAx>
        <c:axId val="4045502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981413"/>
        <c:crosses val="autoZero"/>
        <c:crossBetween val="midCat"/>
        <c:majorUnit val="2"/>
        <c:minorUnit val="0.05"/>
      </c:valAx>
      <c:valAx>
        <c:axId val="3398141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45502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4074480"/>
        <c:axId val="10503389"/>
      </c:scatterChart>
      <c:valAx>
        <c:axId val="5407448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0503389"/>
        <c:crosses val="autoZero"/>
        <c:crossBetween val="midCat"/>
        <c:majorUnit val="2"/>
      </c:valAx>
      <c:valAx>
        <c:axId val="10503389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074480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8636060"/>
        <c:axId val="50912095"/>
      </c:scatterChart>
      <c:valAx>
        <c:axId val="4863606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912095"/>
        <c:crosses val="autoZero"/>
        <c:crossBetween val="midCat"/>
        <c:majorUnit val="2"/>
      </c:valAx>
      <c:valAx>
        <c:axId val="5091209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636060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80459752"/>
        <c:axId val="27481709"/>
      </c:scatterChart>
      <c:valAx>
        <c:axId val="8045975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7481709"/>
        <c:crosses val="autoZero"/>
        <c:crossBetween val="midCat"/>
        <c:majorUnit val="2"/>
        <c:minorUnit val="0.05"/>
      </c:valAx>
      <c:valAx>
        <c:axId val="2748170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45975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803FC4-6E9E-4BCD-A8EF-914A2E8DE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07D4D5-E31F-44F8-9B74-938A9349CFAD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9BFFA5-81DF-4383-929D-A3999A00B626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B9E5C8-38AF-448B-9E5B-3B914C55654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