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12.jpeg" ContentType="image/jpeg"/>
  <Override PartName="/ppt/media/image6.png" ContentType="image/png"/>
  <Override PartName="/ppt/media/image4.png" ContentType="image/png"/>
  <Override PartName="/ppt/media/image21.png" ContentType="image/png"/>
  <Override PartName="/ppt/media/image13.jpeg" ContentType="image/jpeg"/>
  <Override PartName="/ppt/media/image20.png" ContentType="image/png"/>
  <Override PartName="/ppt/media/image19.jpeg" ContentType="image/jpeg"/>
  <Override PartName="/ppt/media/image18.jpeg" ContentType="image/jpeg"/>
  <Override PartName="/ppt/media/image15.jpeg" ContentType="image/jpeg"/>
  <Override PartName="/ppt/media/image16.jpeg" ContentType="image/jpeg"/>
  <Override PartName="/ppt/media/chimes.wav" ContentType="audio/x-wav"/>
  <Override PartName="/ppt/media/image11.jpeg" ContentType="image/jpeg"/>
  <Override PartName="/ppt/media/image8.png" ContentType="image/png"/>
  <Override PartName="/ppt/media/image14.jpeg" ContentType="image/jpeg"/>
  <Override PartName="/ppt/media/image2.png" ContentType="image/pn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F161-0AB0-4742-8879-BC1C3EB31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238E-D430-4C6A-B641-951364EAF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8B4D-1ECE-4A38-8AA5-B8554A801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FDB8-9CD4-434D-B395-0EC792060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88AF-99C0-4003-9879-0DD9BF40C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CEFB-77D5-43BC-B2DC-AEC56C693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E740-93C6-44A5-9C2B-9B6298187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6CF9-6A65-48AD-9462-82EFADDFD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3881-912D-4C62-9B61-DBA5A2239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B962-56A3-4ACF-ADCA-0401E1E39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E820-AC82-48C3-A76C-F43F6E655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4781-53FF-4E5B-8DB7-7B1F8F8CB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7F2AF-3735-4B75-8BE9-130058E9814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msi-nvidia-n8400gs-d512h-512mb-ddr2-64bit-dvi-fan_ies299505.jpg" TargetMode="External"/><Relationship Id="rId2" Type="http://schemas.openxmlformats.org/officeDocument/2006/relationships/image" Target="../media/image1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msi-nvidia-n8400gs-d512h-512mb-ddr2-64bit-dvi-fan_ies299505.jpg" TargetMode="External"/><Relationship Id="rId2" Type="http://schemas.openxmlformats.org/officeDocument/2006/relationships/image" Target="../media/image1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fotoskener-scanjet-g3110_ies269576.jpg" TargetMode="External"/><Relationship Id="rId2" Type="http://schemas.openxmlformats.org/officeDocument/2006/relationships/image" Target="../media/image1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fotoskener-scanjet-g3110_ies269576.jpg" TargetMode="External"/><Relationship Id="rId2" Type="http://schemas.openxmlformats.org/officeDocument/2006/relationships/image" Target="../media/image1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inkoustova-tiskarna-deskjet-d2660-a4-28-ppm-usb-2-0-_ies304889.jpg" TargetMode="External"/><Relationship Id="rId2" Type="http://schemas.openxmlformats.org/officeDocument/2006/relationships/image" Target="../media/image18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inkoustova-tiskarna-deskjet-d2660-a4-28-ppm-usb-2-0-_ies304889.jpg" TargetMode="External"/><Relationship Id="rId2" Type="http://schemas.openxmlformats.org/officeDocument/2006/relationships/image" Target="../media/image18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tp-link-tl-sc3130g-wifi-ip-kamera-3gpp-2-way-mikrofon-i-repro-vga-pri-30fps_ies270042.jpg" TargetMode="External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tp-link-tl-sc3130g-wifi-ip-kamera-3gpp-2-way-mikrofon-i-repro-vga-pri-30fps_ies270042.jpg" TargetMode="External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20.png"/><Relationship Id="rId9" Type="http://schemas.openxmlformats.org/officeDocument/2006/relationships/image" Target="../media/image9.pn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000000"/>
                </a:solidFill>
                <a:latin typeface="Arial"/>
                <a:ea typeface="Arial"/>
              </a:rPr>
              <a:t>SKLADBA PC 14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9280" y="3715920"/>
            <a:ext cx="799308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10253f"/>
                </a:solidFill>
                <a:latin typeface="Arial"/>
                <a:ea typeface="Arial"/>
              </a:rPr>
              <a:t>EU OP VK VYT 2.14 TEST 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ovéPole 3"/>
          <p:cNvSpPr/>
          <p:nvPr/>
        </p:nvSpPr>
        <p:spPr>
          <a:xfrm>
            <a:off x="0" y="5457960"/>
            <a:ext cx="91440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Autorem materiálu a všech jeho částí, není-li uvedeno jinak, je Mgr. Josef Vlach.</a:t>
            </a:r>
            <a:br>
              <a:rPr sz="1100"/>
            </a:b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Dostupné z Metodického portálu www.rvp.cz, ISSN: 1802–4785.</a:t>
            </a:r>
            <a:br>
              <a:rPr sz="1100"/>
            </a:b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Provozuje Národní ústav pro vzdělávání, školské poradenské zařízení a zařízení pro další vzdělávání pedagogických pracovníků (NÚV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5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http://interlink.tsbohemia.cz/dimm-ddr2-256mb-533mhz-transcend-cl4-jetram_i54102.jpg"/>
          <p:cNvPicPr/>
          <p:nvPr/>
        </p:nvPicPr>
        <p:blipFill>
          <a:blip r:embed="rId1"/>
          <a:stretch/>
        </p:blipFill>
        <p:spPr>
          <a:xfrm>
            <a:off x="3780000" y="1916280"/>
            <a:ext cx="4321080" cy="432108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MSI nVidia N8400GS-D512H, 512MB DDR2, 64bit, DVI, Fa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125360"/>
            <a:ext cx="5327640" cy="5328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MSI nVidia N8400GS-D512H, 512MB DDR2, 64bit, DVI, Fa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125360"/>
            <a:ext cx="5327640" cy="532800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http://interlink.tsbohemia.cz/intel-core-2-duo-e7500-2-93ghz-3mb-1066-box-lga775_i82435.jpg"/>
          <p:cNvPicPr/>
          <p:nvPr/>
        </p:nvPicPr>
        <p:blipFill>
          <a:blip r:embed="rId1"/>
          <a:stretch/>
        </p:blipFill>
        <p:spPr>
          <a:xfrm>
            <a:off x="2771640" y="1628640"/>
            <a:ext cx="5661000" cy="360072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http://interlink.tsbohemia.cz/edimax-en-9130tx-10-100mb-pci_ies272287.jpg"/>
          <p:cNvPicPr/>
          <p:nvPr/>
        </p:nvPicPr>
        <p:blipFill>
          <a:blip r:embed="rId1"/>
          <a:stretch/>
        </p:blipFill>
        <p:spPr>
          <a:xfrm>
            <a:off x="3132000" y="1170000"/>
            <a:ext cx="5688000" cy="5688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http://interlink.tsbohemia.cz/edimax-en-9130tx-10-100mb-pci_ies272287.jpg"/>
          <p:cNvPicPr/>
          <p:nvPr/>
        </p:nvPicPr>
        <p:blipFill>
          <a:blip r:embed="rId1"/>
          <a:stretch/>
        </p:blipFill>
        <p:spPr>
          <a:xfrm>
            <a:off x="3276720" y="1170000"/>
            <a:ext cx="5689440" cy="568800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2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http://interlink.tsbohemia.cz/pevny-disk-seagate-barracuda-500gb-sataii-300-16mb-7200-12-ncq-_ies269581.jpg"/>
          <p:cNvPicPr/>
          <p:nvPr/>
        </p:nvPicPr>
        <p:blipFill>
          <a:blip r:embed="rId1"/>
          <a:stretch/>
        </p:blipFill>
        <p:spPr>
          <a:xfrm>
            <a:off x="2916360" y="1484280"/>
            <a:ext cx="5910120" cy="482436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http://interlink.tsbohemia.cz/pevny-disk-seagate-barracuda-500gb-sataii-300-16mb-7200-12-ncq-_ies269581.jpg"/>
          <p:cNvPicPr/>
          <p:nvPr/>
        </p:nvPicPr>
        <p:blipFill>
          <a:blip r:embed="rId1"/>
          <a:stretch/>
        </p:blipFill>
        <p:spPr>
          <a:xfrm>
            <a:off x="3233880" y="1484280"/>
            <a:ext cx="5910120" cy="482436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http://interlink.tsbohemia.cz/mb-chladic-arctic-cooling-chipset-cooler_ies331364.jpg"/>
          <p:cNvPicPr/>
          <p:nvPr/>
        </p:nvPicPr>
        <p:blipFill>
          <a:blip r:embed="rId1"/>
          <a:stretch/>
        </p:blipFill>
        <p:spPr>
          <a:xfrm>
            <a:off x="3492360" y="1125360"/>
            <a:ext cx="5400720" cy="539928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http://interlink.tsbohemia.cz/mb-chladic-arctic-cooling-chipset-cooler_ies331364.jpg"/>
          <p:cNvPicPr/>
          <p:nvPr/>
        </p:nvPicPr>
        <p:blipFill>
          <a:blip r:embed="rId1"/>
          <a:stretch/>
        </p:blipFill>
        <p:spPr>
          <a:xfrm>
            <a:off x="3492360" y="1125360"/>
            <a:ext cx="5400720" cy="539928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3600" spc="-1" strike="noStrike">
                <a:solidFill>
                  <a:srgbClr val="ffff00"/>
                </a:solidFill>
                <a:latin typeface="Arial"/>
                <a:ea typeface="Arial"/>
              </a:rPr>
              <a:t>TEST č.1</a:t>
            </a:r>
            <a:endParaRPr b="0" lang="en-US" sz="1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periferní zaříze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" descr="HP fotoskener ScanJet G311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052640"/>
            <a:ext cx="5256000" cy="5256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K čemu slouží? Popište jeho funkc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" descr="HP fotoskener ScanJet G311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052640"/>
            <a:ext cx="5256000" cy="525600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periferní zaříze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2" descr="HP inkoustová tiskárna DeskJet D2660 (A4, 28 ppm, USB 2.0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19640" y="1268280"/>
            <a:ext cx="5113080" cy="511344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K čemu slouží? Popište jeho funkc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2" descr="HP inkoustová tiskárna DeskJet D2660 (A4, 28 ppm, USB 2.0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19640" y="1268280"/>
            <a:ext cx="5113080" cy="511344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periferní zaříze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2" descr="TP-LINK TL-SC3130G, WiFi IP Kamera, 3GPP, 2-way (mikrofon i repro), VGA při 30fp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48000" y="141300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K čemu slouží? Popište jeho funkc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2" descr="TP-LINK TL-SC3130G, WiFi IP Kamera, 3GPP, 2-way (mikrofon i repro), VGA při 30fp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48000" y="141300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600" spc="-1" strike="noStrike">
                <a:solidFill>
                  <a:srgbClr val="ffff00"/>
                </a:solidFill>
                <a:latin typeface="Arial"/>
                <a:ea typeface="Arial"/>
              </a:rPr>
              <a:t>Konec testu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600" spc="-1" strike="noStrike">
                <a:solidFill>
                  <a:srgbClr val="ffff00"/>
                </a:solidFill>
                <a:latin typeface="Arial"/>
                <a:ea typeface="Arial"/>
              </a:rPr>
              <a:t>Řešení testu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3200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600" spc="-1" strike="noStrike">
                <a:solidFill>
                  <a:srgbClr val="000000"/>
                </a:solidFill>
                <a:latin typeface="Arial"/>
                <a:ea typeface="Arial"/>
              </a:rPr>
              <a:t>bit ‒ zn. </a:t>
            </a:r>
            <a:r>
              <a:rPr b="1" i="1" lang="cs-CZ" sz="116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Nejmenší jednotka informace dvojkové soustavy – vyjadřuje, že se nějaký systém nachází</a:t>
            </a:r>
            <a:br>
              <a:rPr sz="2800"/>
            </a:b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v jednom ze DVOU možných stavů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(ano – ne, 0–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500" spc="-1" strike="noStrike">
                <a:solidFill>
                  <a:srgbClr val="000000"/>
                </a:solidFill>
                <a:latin typeface="Arial"/>
                <a:ea typeface="Arial"/>
              </a:rPr>
              <a:t>byte – zn. B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Sloučení 8 bitů – název  „bajt“, kombinací</a:t>
            </a:r>
            <a:br>
              <a:rPr sz="2800"/>
            </a:b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8 jedniček a nul lze zapsat 256 znaků (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8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ffff00"/>
                </a:solidFill>
                <a:latin typeface="Arial"/>
                <a:ea typeface="Arial"/>
              </a:rPr>
              <a:t>Počet otázek ‒ 22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79280" y="1600200"/>
            <a:ext cx="878544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1KB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kilobajt)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= 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1MB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megabajt)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= 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KB = 1 048 576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1GB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gigabajt)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MB = 1 048 576 KB = 1 073 741 824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Mateřská des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Matherboa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Základní des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ojmenujte označené prvky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1) PROCES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2) SLOT R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3) PCI EXPRES VG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4) PARALELNÍ POR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5) AUDIO IN OU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6) LAN + 2x USB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7)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KONEKTOR MYŠ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8)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KON. KLÁVESNI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  <p:pic>
        <p:nvPicPr>
          <p:cNvPr id="139" name="Obdélník 5" descr=""/>
          <p:cNvPicPr/>
          <p:nvPr/>
        </p:nvPicPr>
        <p:blipFill>
          <a:blip r:embed="rId2"/>
          <a:stretch/>
        </p:blipFill>
        <p:spPr>
          <a:xfrm>
            <a:off x="6407280" y="2419200"/>
            <a:ext cx="1334880" cy="1609920"/>
          </a:xfrm>
          <a:prstGeom prst="rect">
            <a:avLst/>
          </a:prstGeom>
          <a:ln w="0">
            <a:noFill/>
          </a:ln>
        </p:spPr>
      </p:pic>
      <p:pic>
        <p:nvPicPr>
          <p:cNvPr id="140" name="Obdélník 6" descr=""/>
          <p:cNvPicPr/>
          <p:nvPr/>
        </p:nvPicPr>
        <p:blipFill>
          <a:blip r:embed="rId3"/>
          <a:stretch/>
        </p:blipFill>
        <p:spPr>
          <a:xfrm>
            <a:off x="5467320" y="3505320"/>
            <a:ext cx="1335240" cy="1603080"/>
          </a:xfrm>
          <a:prstGeom prst="rect">
            <a:avLst/>
          </a:prstGeom>
          <a:ln w="0">
            <a:noFill/>
          </a:ln>
        </p:spPr>
      </p:pic>
      <p:pic>
        <p:nvPicPr>
          <p:cNvPr id="141" name="Obdélník 7" descr=""/>
          <p:cNvPicPr/>
          <p:nvPr/>
        </p:nvPicPr>
        <p:blipFill>
          <a:blip r:embed="rId4"/>
          <a:stretch/>
        </p:blipFill>
        <p:spPr>
          <a:xfrm>
            <a:off x="4175280" y="2494080"/>
            <a:ext cx="1330200" cy="1608120"/>
          </a:xfrm>
          <a:prstGeom prst="rect">
            <a:avLst/>
          </a:prstGeom>
          <a:ln w="0">
            <a:noFill/>
          </a:ln>
        </p:spPr>
      </p:pic>
      <p:pic>
        <p:nvPicPr>
          <p:cNvPr id="142" name="Obdélník 8" descr=""/>
          <p:cNvPicPr/>
          <p:nvPr/>
        </p:nvPicPr>
        <p:blipFill>
          <a:blip r:embed="rId5"/>
          <a:stretch/>
        </p:blipFill>
        <p:spPr>
          <a:xfrm>
            <a:off x="4608360" y="4870440"/>
            <a:ext cx="1328760" cy="1609560"/>
          </a:xfrm>
          <a:prstGeom prst="rect">
            <a:avLst/>
          </a:prstGeom>
          <a:ln w="0">
            <a:noFill/>
          </a:ln>
        </p:spPr>
      </p:pic>
      <p:pic>
        <p:nvPicPr>
          <p:cNvPr id="143" name="Obdélník 9" descr=""/>
          <p:cNvPicPr/>
          <p:nvPr/>
        </p:nvPicPr>
        <p:blipFill>
          <a:blip r:embed="rId6"/>
          <a:stretch/>
        </p:blipFill>
        <p:spPr>
          <a:xfrm>
            <a:off x="7705800" y="5084640"/>
            <a:ext cx="1328760" cy="1608120"/>
          </a:xfrm>
          <a:prstGeom prst="rect">
            <a:avLst/>
          </a:prstGeom>
          <a:ln w="0">
            <a:noFill/>
          </a:ln>
        </p:spPr>
      </p:pic>
      <p:pic>
        <p:nvPicPr>
          <p:cNvPr id="144" name="Obdélník 10" descr=""/>
          <p:cNvPicPr/>
          <p:nvPr/>
        </p:nvPicPr>
        <p:blipFill>
          <a:blip r:embed="rId7"/>
          <a:stretch/>
        </p:blipFill>
        <p:spPr>
          <a:xfrm>
            <a:off x="6620040" y="5516640"/>
            <a:ext cx="1334880" cy="1609560"/>
          </a:xfrm>
          <a:prstGeom prst="rect">
            <a:avLst/>
          </a:prstGeom>
          <a:ln w="0">
            <a:noFill/>
          </a:ln>
        </p:spPr>
      </p:pic>
      <p:pic>
        <p:nvPicPr>
          <p:cNvPr id="145" name="Obdélník 11" descr=""/>
          <p:cNvPicPr/>
          <p:nvPr/>
        </p:nvPicPr>
        <p:blipFill>
          <a:blip r:embed="rId8"/>
          <a:stretch/>
        </p:blipFill>
        <p:spPr>
          <a:xfrm>
            <a:off x="2975040" y="4870440"/>
            <a:ext cx="1328760" cy="1609560"/>
          </a:xfrm>
          <a:prstGeom prst="rect">
            <a:avLst/>
          </a:prstGeom>
          <a:ln w="0">
            <a:noFill/>
          </a:ln>
        </p:spPr>
      </p:pic>
      <p:pic>
        <p:nvPicPr>
          <p:cNvPr id="146" name="Obdélník 12" descr=""/>
          <p:cNvPicPr/>
          <p:nvPr/>
        </p:nvPicPr>
        <p:blipFill>
          <a:blip r:embed="rId9"/>
          <a:stretch/>
        </p:blipFill>
        <p:spPr>
          <a:xfrm>
            <a:off x="2975040" y="5450040"/>
            <a:ext cx="1328760" cy="16030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10" name="chimes.wav"/>
      </p:stSnd>
    </p:sndAc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http://interlink.tsbohemia.cz/fortron-zdroj-fsp400-apn-400w-80plus-atx_ies291566.jpg"/>
          <p:cNvPicPr/>
          <p:nvPr/>
        </p:nvPicPr>
        <p:blipFill>
          <a:blip r:embed="rId1"/>
          <a:stretch/>
        </p:blipFill>
        <p:spPr>
          <a:xfrm>
            <a:off x="3178080" y="1143000"/>
            <a:ext cx="5715000" cy="57150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ZDROJ NAPÁJENÍ P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00000"/>
                </a:solidFill>
                <a:latin typeface="Arial"/>
                <a:ea typeface="Arial"/>
              </a:rPr>
              <a:t>TRANSFORMUJE SÍŤOVÉ NAPĚTÍ</a:t>
            </a:r>
            <a:br>
              <a:rPr sz="2200"/>
            </a:br>
            <a:r>
              <a:rPr b="1" i="1" lang="cs-CZ" sz="2200" spc="-1" strike="noStrike">
                <a:solidFill>
                  <a:srgbClr val="000000"/>
                </a:solidFill>
                <a:latin typeface="Arial"/>
                <a:ea typeface="Arial"/>
              </a:rPr>
              <a:t>220 V NA BEZPEČNÉ NAPĚTÍ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+- 12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+- 5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+- 3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PRO NAPÁJENÍ JEDNOTLIVÝCH KOMPONENTŮ P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RAM – operační paměť, po odpojení napájení obsah paměti zmizí – obsah paměti NENÍ ulož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2" descr="http://interlink.tsbohemia.cz/dimm-ddr2-256mb-533mhz-transcend-cl4-jetram_i54102.jpg"/>
          <p:cNvPicPr/>
          <p:nvPr/>
        </p:nvPicPr>
        <p:blipFill>
          <a:blip r:embed="rId1"/>
          <a:stretch/>
        </p:blipFill>
        <p:spPr>
          <a:xfrm>
            <a:off x="3780000" y="1916280"/>
            <a:ext cx="4321080" cy="43210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MSI nVidia N8400GS-D512H, 512MB DDR2, 64bit, DVI, Fan"/>
          <p:cNvPicPr/>
          <p:nvPr/>
        </p:nvPicPr>
        <p:blipFill>
          <a:blip r:embed="rId1"/>
          <a:stretch/>
        </p:blipFill>
        <p:spPr>
          <a:xfrm>
            <a:off x="3276720" y="1125360"/>
            <a:ext cx="5327640" cy="532800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8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VGA – Grafická karta (PCI Expr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louží pro převedení numerických hodnot PC na vizuální prostředí – převede data na monitor – výstupní zařízení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http://interlink.tsbohemia.cz/intel-core-2-duo-e7500-2-93ghz-3mb-1066-box-lga775_i82435.jpg"/>
          <p:cNvPicPr/>
          <p:nvPr/>
        </p:nvPicPr>
        <p:blipFill>
          <a:blip r:embed="rId1"/>
          <a:stretch/>
        </p:blipFill>
        <p:spPr>
          <a:xfrm>
            <a:off x="3376440" y="1916280"/>
            <a:ext cx="5659560" cy="360036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CPU – proces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V tomto případě se jedná</a:t>
            </a:r>
            <a:br>
              <a:rPr sz="2800"/>
            </a:b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o dvoujádrový procesor – zpracovává všechny  zadávané informace – základní prvek P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http://interlink.tsbohemia.cz/edimax-en-9130tx-10-100mb-pci_ies272287.jpg"/>
          <p:cNvPicPr/>
          <p:nvPr/>
        </p:nvPicPr>
        <p:blipFill>
          <a:blip r:embed="rId1"/>
          <a:stretch/>
        </p:blipFill>
        <p:spPr>
          <a:xfrm>
            <a:off x="3132000" y="1170000"/>
            <a:ext cx="5688000" cy="568800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1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ÍŤOVÁ KARTA 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rvek umožňující zapojení PC do sítí INTRANETU</a:t>
            </a:r>
            <a:br>
              <a:rPr sz="2400"/>
            </a:b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a INTERNETU – zajišťuje komunikaci PC se síťovými prvk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(provedení PCI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http://interlink.tsbohemia.cz/pevny-disk-seagate-barracuda-500gb-sataii-300-16mb-7200-12-ncq-_ies269581.jpg"/>
          <p:cNvPicPr/>
          <p:nvPr/>
        </p:nvPicPr>
        <p:blipFill>
          <a:blip r:embed="rId1"/>
          <a:stretch/>
        </p:blipFill>
        <p:spPr>
          <a:xfrm>
            <a:off x="2916360" y="1484280"/>
            <a:ext cx="5910120" cy="482436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3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HDD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(hard drive disc)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– pevný dis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louží k ukládání dat – úložiště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rovedení –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ATA 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ATA I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I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CS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5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CHLADICÍ PRV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V tomto případě se jedná o kombinaci aktivního a pasivního chlazení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Aktivní – větráč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asivní – blok hliníkového chladič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Slouží pro odvedení nežádoucího tepla</a:t>
            </a:r>
            <a:br>
              <a:rPr sz="2000"/>
            </a:b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z prvků PC, jako je procesor, koprocesor, grafická karta at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Picture 2" descr="http://interlink.tsbohemia.cz/mb-chladic-arctic-cooling-chipset-cooler_ies331364.jpg"/>
          <p:cNvPicPr/>
          <p:nvPr/>
        </p:nvPicPr>
        <p:blipFill>
          <a:blip r:embed="rId1"/>
          <a:stretch/>
        </p:blipFill>
        <p:spPr>
          <a:xfrm>
            <a:off x="3492360" y="1125360"/>
            <a:ext cx="5400720" cy="53992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Definujte: </a:t>
            </a:r>
            <a:r>
              <a:rPr b="0" i="1" lang="cs-CZ" sz="16600" spc="-1" strike="noStrike">
                <a:solidFill>
                  <a:srgbClr val="000000"/>
                </a:solidFill>
                <a:latin typeface="Arial"/>
                <a:ea typeface="Arial"/>
              </a:rPr>
              <a:t>bit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5000">
    <p:fade/>
    <p:sndAc>
      <p:stSnd>
        <p:snd r:embed="rId1" name="chimes.wav"/>
      </p:stSnd>
    </p:sndAc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HP fotoskener ScanJet G3110"/>
          <p:cNvPicPr/>
          <p:nvPr/>
        </p:nvPicPr>
        <p:blipFill>
          <a:blip r:embed="rId1"/>
          <a:stretch/>
        </p:blipFill>
        <p:spPr>
          <a:xfrm>
            <a:off x="3276720" y="1052640"/>
            <a:ext cx="5256000" cy="52560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7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Arial"/>
                <a:ea typeface="Arial"/>
              </a:rPr>
              <a:t>SCANER </a:t>
            </a:r>
            <a:r>
              <a:rPr b="1" lang="cs-CZ" sz="1700" spc="-1" strike="noStrike">
                <a:solidFill>
                  <a:srgbClr val="000000"/>
                </a:solidFill>
                <a:latin typeface="Arial"/>
                <a:ea typeface="Arial"/>
              </a:rPr>
              <a:t>(SKENER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100" spc="-1" strike="noStrike">
                <a:solidFill>
                  <a:srgbClr val="000000"/>
                </a:solidFill>
                <a:latin typeface="Arial"/>
                <a:ea typeface="Arial"/>
              </a:rPr>
              <a:t>Vstupní zařízení, které slouží pro digitalizaci obrazových či textových předloh určených k dalšímu zpracování pomocí PC. Pomocí software OCR je možné digitalizovaný text převést do textového editoru a dále jej editovat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9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TISKÁRN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Výstupní zařízení – zde je na první pohled vidět, že se jedná</a:t>
            </a:r>
            <a:br>
              <a:rPr sz="2000"/>
            </a:b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o inkoustovou tiskárnu, primárně určenou na tisk fotografií. Nevýhodou inkoustového tisku je vysoká nákladnost tisku a potřebného spotřebního materiál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Picture 2" descr="HP inkoustová tiskárna DeskJet D2660 (A4, 28 ppm, USB 2.0)"/>
          <p:cNvPicPr/>
          <p:nvPr/>
        </p:nvPicPr>
        <p:blipFill>
          <a:blip r:embed="rId1"/>
          <a:stretch/>
        </p:blipFill>
        <p:spPr>
          <a:xfrm>
            <a:off x="3419640" y="1268280"/>
            <a:ext cx="5113080" cy="511344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WEBKAMER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Slouží pro vizualizaci prostředí eventuálně pro vizuální komunikaci pomocí sítě INTRANETU či INTERNET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Další možností jsou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Zabezpečení pros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Dálkový dohl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Možnost připojení k PC přímo či pomocí LAN sítě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Picture 2" descr="TP-LINK TL-SC3130G, WiFi IP Kamera, 3GPP, 2-way (mikrofon i repro), VGA při 30fps"/>
          <p:cNvPicPr/>
          <p:nvPr/>
        </p:nvPicPr>
        <p:blipFill>
          <a:blip r:embed="rId1"/>
          <a:stretch/>
        </p:blipFill>
        <p:spPr>
          <a:xfrm>
            <a:off x="3348000" y="141300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17375e"/>
                </a:solidFill>
                <a:latin typeface="Arial"/>
                <a:ea typeface="Arial"/>
              </a:rPr>
              <a:t>Použité zdroj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ovéPole 10"/>
          <p:cNvSpPr/>
          <p:nvPr/>
        </p:nvSpPr>
        <p:spPr>
          <a:xfrm>
            <a:off x="826920" y="1413000"/>
            <a:ext cx="749016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9640" indent="-45720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V prezentaci jsou použity obrazové a textové zdroje f. T.S. BOHEMIA s jejím souhlas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lnSpc>
                <a:spcPct val="100000"/>
              </a:lnSpc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Obrázek 11" descr="tsbohemia_logo.gif"/>
          <p:cNvPicPr/>
          <p:nvPr/>
        </p:nvPicPr>
        <p:blipFill>
          <a:blip r:embed="rId1"/>
          <a:stretch/>
        </p:blipFill>
        <p:spPr>
          <a:xfrm>
            <a:off x="2556000" y="3068640"/>
            <a:ext cx="4390920" cy="199692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Definujte: </a:t>
            </a:r>
            <a:r>
              <a:rPr b="0" i="1" lang="cs-CZ" sz="16600" spc="-1" strike="noStrike">
                <a:solidFill>
                  <a:srgbClr val="000000"/>
                </a:solidFill>
                <a:latin typeface="Arial"/>
                <a:ea typeface="Arial"/>
              </a:rPr>
              <a:t>byte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5000">
    <p:fade/>
    <p:sndAc>
      <p:stSnd>
        <p:snd r:embed="rId1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7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  <a:ea typeface="Arial"/>
              </a:rPr>
              <a:t>Zapište: </a:t>
            </a:r>
            <a:r>
              <a:rPr b="0" i="1" lang="cs-CZ" sz="6800" spc="-1" strike="noStrike">
                <a:solidFill>
                  <a:srgbClr val="000000"/>
                </a:solidFill>
                <a:latin typeface="Arial"/>
                <a:ea typeface="Arial"/>
              </a:rPr>
              <a:t>běžně používané násobky „byte“ a číselně vyjádřete jejich hodnotu v byte</a:t>
            </a:r>
            <a:endParaRPr b="0" lang="en-US" sz="6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5000">
    <p:fade/>
    <p:sndAc>
      <p:stSnd>
        <p:snd r:embed="rId1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ojmenujte označené prvky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1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2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3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4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5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6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7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8)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  <p:pic>
        <p:nvPicPr>
          <p:cNvPr id="62" name="Obdélník 5" descr=""/>
          <p:cNvPicPr/>
          <p:nvPr/>
        </p:nvPicPr>
        <p:blipFill>
          <a:blip r:embed="rId2"/>
          <a:stretch/>
        </p:blipFill>
        <p:spPr>
          <a:xfrm>
            <a:off x="6407280" y="2419200"/>
            <a:ext cx="1334880" cy="1609920"/>
          </a:xfrm>
          <a:prstGeom prst="rect">
            <a:avLst/>
          </a:prstGeom>
          <a:ln w="0">
            <a:noFill/>
          </a:ln>
        </p:spPr>
      </p:pic>
      <p:pic>
        <p:nvPicPr>
          <p:cNvPr id="63" name="Obdélník 6" descr=""/>
          <p:cNvPicPr/>
          <p:nvPr/>
        </p:nvPicPr>
        <p:blipFill>
          <a:blip r:embed="rId3"/>
          <a:stretch/>
        </p:blipFill>
        <p:spPr>
          <a:xfrm>
            <a:off x="5467320" y="3505320"/>
            <a:ext cx="1335240" cy="1603080"/>
          </a:xfrm>
          <a:prstGeom prst="rect">
            <a:avLst/>
          </a:prstGeom>
          <a:ln w="0">
            <a:noFill/>
          </a:ln>
        </p:spPr>
      </p:pic>
      <p:pic>
        <p:nvPicPr>
          <p:cNvPr id="64" name="Obdélník 7" descr=""/>
          <p:cNvPicPr/>
          <p:nvPr/>
        </p:nvPicPr>
        <p:blipFill>
          <a:blip r:embed="rId4"/>
          <a:stretch/>
        </p:blipFill>
        <p:spPr>
          <a:xfrm>
            <a:off x="4175280" y="2494080"/>
            <a:ext cx="1330200" cy="1608120"/>
          </a:xfrm>
          <a:prstGeom prst="rect">
            <a:avLst/>
          </a:prstGeom>
          <a:ln w="0">
            <a:noFill/>
          </a:ln>
        </p:spPr>
      </p:pic>
      <p:pic>
        <p:nvPicPr>
          <p:cNvPr id="65" name="Obdélník 8" descr=""/>
          <p:cNvPicPr/>
          <p:nvPr/>
        </p:nvPicPr>
        <p:blipFill>
          <a:blip r:embed="rId5"/>
          <a:stretch/>
        </p:blipFill>
        <p:spPr>
          <a:xfrm>
            <a:off x="4608360" y="4870440"/>
            <a:ext cx="1328760" cy="1609560"/>
          </a:xfrm>
          <a:prstGeom prst="rect">
            <a:avLst/>
          </a:prstGeom>
          <a:ln w="0">
            <a:noFill/>
          </a:ln>
        </p:spPr>
      </p:pic>
      <p:pic>
        <p:nvPicPr>
          <p:cNvPr id="66" name="Obdélník 9" descr=""/>
          <p:cNvPicPr/>
          <p:nvPr/>
        </p:nvPicPr>
        <p:blipFill>
          <a:blip r:embed="rId6"/>
          <a:stretch/>
        </p:blipFill>
        <p:spPr>
          <a:xfrm>
            <a:off x="7705800" y="5084640"/>
            <a:ext cx="1328760" cy="1608120"/>
          </a:xfrm>
          <a:prstGeom prst="rect">
            <a:avLst/>
          </a:prstGeom>
          <a:ln w="0">
            <a:noFill/>
          </a:ln>
        </p:spPr>
      </p:pic>
      <p:pic>
        <p:nvPicPr>
          <p:cNvPr id="67" name="Obdélník 10" descr=""/>
          <p:cNvPicPr/>
          <p:nvPr/>
        </p:nvPicPr>
        <p:blipFill>
          <a:blip r:embed="rId7"/>
          <a:stretch/>
        </p:blipFill>
        <p:spPr>
          <a:xfrm>
            <a:off x="6620040" y="5516640"/>
            <a:ext cx="1334880" cy="1609560"/>
          </a:xfrm>
          <a:prstGeom prst="rect">
            <a:avLst/>
          </a:prstGeom>
          <a:ln w="0">
            <a:noFill/>
          </a:ln>
        </p:spPr>
      </p:pic>
      <p:pic>
        <p:nvPicPr>
          <p:cNvPr id="68" name="Obdélník 11" descr=""/>
          <p:cNvPicPr/>
          <p:nvPr/>
        </p:nvPicPr>
        <p:blipFill>
          <a:blip r:embed="rId8"/>
          <a:stretch/>
        </p:blipFill>
        <p:spPr>
          <a:xfrm>
            <a:off x="2992320" y="4870440"/>
            <a:ext cx="1330560" cy="1603440"/>
          </a:xfrm>
          <a:prstGeom prst="rect">
            <a:avLst/>
          </a:prstGeom>
          <a:ln w="0">
            <a:noFill/>
          </a:ln>
        </p:spPr>
      </p:pic>
      <p:pic>
        <p:nvPicPr>
          <p:cNvPr id="69" name="Obdélník 12" descr=""/>
          <p:cNvPicPr/>
          <p:nvPr/>
        </p:nvPicPr>
        <p:blipFill>
          <a:blip r:embed="rId9"/>
          <a:stretch/>
        </p:blipFill>
        <p:spPr>
          <a:xfrm>
            <a:off x="2975040" y="5450040"/>
            <a:ext cx="1328760" cy="1603080"/>
          </a:xfrm>
          <a:prstGeom prst="rect">
            <a:avLst/>
          </a:prstGeom>
          <a:ln w="0">
            <a:noFill/>
          </a:ln>
        </p:spPr>
      </p:pic>
    </p:spTree>
  </p:cSld>
  <p:transition advTm="60000">
    <p:fade/>
    <p:sndAc>
      <p:stSnd>
        <p:snd r:embed="rId10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http://interlink.tsbohemia.cz/fortron-zdroj-fsp400-apn-400w-80plus-atx_ies291566.jpg"/>
          <p:cNvPicPr/>
          <p:nvPr/>
        </p:nvPicPr>
        <p:blipFill>
          <a:blip r:embed="rId1"/>
          <a:stretch/>
        </p:blipFill>
        <p:spPr>
          <a:xfrm>
            <a:off x="2916360" y="1143000"/>
            <a:ext cx="5715000" cy="5715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9T06:57:46Z</dcterms:created>
  <dc:creator>vlachj</dc:creator>
  <dc:description>Autorem materiálu a všech jeho částí, není-li uvedeno jinak, je Mgr. Josef Vlach.
Dostupné z Metodického portálu www.rvp.cz, ISSN: 1802–4785. Provozuje Národní ústav pro vzdělávání, školské poradenské zařízení a zařízení pro další vzdělávání pedagogických pracovníků (NÚV).</dc:description>
  <dc:language>en-US</dc:language>
  <cp:lastModifiedBy>Krobot Ivo</cp:lastModifiedBy>
  <dcterms:modified xsi:type="dcterms:W3CDTF">2012-12-13T08:25:07Z</dcterms:modified>
  <cp:revision>43</cp:revision>
  <dc:subject/>
  <dc:title>TEST č.1</dc:title>
</cp:coreProperties>
</file>