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81583622"/>
        <c:axId val="39279651"/>
      </c:scatterChart>
      <c:valAx>
        <c:axId val="81583622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9279651"/>
        <c:crosses val="autoZero"/>
        <c:crossBetween val="midCat"/>
        <c:majorUnit val="1"/>
      </c:valAx>
      <c:valAx>
        <c:axId val="39279651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1583622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42601213"/>
        <c:axId val="245306"/>
      </c:scatterChart>
      <c:valAx>
        <c:axId val="42601213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45306"/>
        <c:crosses val="autoZero"/>
        <c:crossBetween val="midCat"/>
        <c:majorUnit val="1"/>
      </c:valAx>
      <c:valAx>
        <c:axId val="245306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2601213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46050327"/>
        <c:axId val="35299176"/>
      </c:scatterChart>
      <c:valAx>
        <c:axId val="46050327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35299176"/>
        <c:crosses val="autoZero"/>
        <c:crossBetween val="midCat"/>
        <c:majorUnit val="2"/>
        <c:minorUnit val="1"/>
      </c:valAx>
      <c:valAx>
        <c:axId val="35299176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46050327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67896326"/>
        <c:axId val="49635079"/>
      </c:scatterChart>
      <c:valAx>
        <c:axId val="6789632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9635079"/>
        <c:crosses val="autoZero"/>
        <c:crossBetween val="midCat"/>
        <c:majorUnit val="2"/>
        <c:minorUnit val="0.05"/>
      </c:valAx>
      <c:valAx>
        <c:axId val="49635079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7896326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51039080"/>
        <c:axId val="29143907"/>
      </c:scatterChart>
      <c:valAx>
        <c:axId val="5103908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9143907"/>
        <c:crosses val="autoZero"/>
        <c:crossBetween val="midCat"/>
        <c:majorUnit val="2"/>
        <c:minorUnit val="0.05"/>
      </c:valAx>
      <c:valAx>
        <c:axId val="29143907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1039080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96910814"/>
        <c:axId val="8955720"/>
      </c:scatterChart>
      <c:valAx>
        <c:axId val="9691081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955720"/>
        <c:crosses val="autoZero"/>
        <c:crossBetween val="midCat"/>
        <c:majorUnit val="2"/>
        <c:minorUnit val="0.05"/>
      </c:valAx>
      <c:valAx>
        <c:axId val="8955720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6910814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59712051"/>
        <c:axId val="43281353"/>
      </c:scatterChart>
      <c:valAx>
        <c:axId val="5971205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3281353"/>
        <c:crosses val="autoZero"/>
        <c:crossBetween val="midCat"/>
        <c:majorUnit val="2"/>
      </c:valAx>
      <c:valAx>
        <c:axId val="43281353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9712051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80123087"/>
        <c:axId val="34860213"/>
      </c:scatterChart>
      <c:valAx>
        <c:axId val="8012308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4860213"/>
        <c:crosses val="autoZero"/>
        <c:crossBetween val="midCat"/>
        <c:majorUnit val="2"/>
      </c:valAx>
      <c:valAx>
        <c:axId val="34860213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0123087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34481557"/>
        <c:axId val="14569795"/>
      </c:scatterChart>
      <c:valAx>
        <c:axId val="3448155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4569795"/>
        <c:crosses val="autoZero"/>
        <c:crossBetween val="midCat"/>
        <c:majorUnit val="2"/>
        <c:minorUnit val="0.05"/>
      </c:valAx>
      <c:valAx>
        <c:axId val="14569795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4481557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CE8300-2D69-41D3-811D-B90ECFDF3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A99961-0601-496F-81C7-9D16D111CF3D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5D429C-ABCD-41BD-BD9E-164793242658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D163AE-3FFC-470E-B208-F3E1A020AEC3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