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4287616"/>
        <c:axId val="63207930"/>
      </c:scatterChart>
      <c:valAx>
        <c:axId val="6428761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207930"/>
        <c:crosses val="autoZero"/>
        <c:crossBetween val="midCat"/>
        <c:majorUnit val="1"/>
      </c:valAx>
      <c:valAx>
        <c:axId val="6320793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28761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4407104"/>
        <c:axId val="78348066"/>
      </c:scatterChart>
      <c:valAx>
        <c:axId val="4407104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348066"/>
        <c:crosses val="autoZero"/>
        <c:crossBetween val="midCat"/>
        <c:majorUnit val="1"/>
      </c:valAx>
      <c:valAx>
        <c:axId val="78348066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07104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2949889"/>
        <c:axId val="61174386"/>
      </c:scatterChart>
      <c:valAx>
        <c:axId val="92949889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1174386"/>
        <c:crosses val="autoZero"/>
        <c:crossBetween val="midCat"/>
        <c:majorUnit val="2"/>
        <c:minorUnit val="1"/>
      </c:valAx>
      <c:valAx>
        <c:axId val="61174386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2949889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5084051"/>
        <c:axId val="6866024"/>
      </c:scatterChart>
      <c:valAx>
        <c:axId val="8508405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66024"/>
        <c:crosses val="autoZero"/>
        <c:crossBetween val="midCat"/>
        <c:majorUnit val="2"/>
        <c:minorUnit val="0.05"/>
      </c:valAx>
      <c:valAx>
        <c:axId val="686602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508405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8483356"/>
        <c:axId val="57133189"/>
      </c:scatterChart>
      <c:valAx>
        <c:axId val="9848335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133189"/>
        <c:crosses val="autoZero"/>
        <c:crossBetween val="midCat"/>
        <c:majorUnit val="2"/>
        <c:minorUnit val="0.05"/>
      </c:valAx>
      <c:valAx>
        <c:axId val="5713318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848335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4282039"/>
        <c:axId val="9028377"/>
      </c:scatterChart>
      <c:valAx>
        <c:axId val="3428203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28377"/>
        <c:crosses val="autoZero"/>
        <c:crossBetween val="midCat"/>
        <c:majorUnit val="2"/>
        <c:minorUnit val="0.05"/>
      </c:valAx>
      <c:valAx>
        <c:axId val="902837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28203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20214411"/>
        <c:axId val="60386236"/>
      </c:scatterChart>
      <c:valAx>
        <c:axId val="2021441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386236"/>
        <c:crosses val="autoZero"/>
        <c:crossBetween val="midCat"/>
        <c:majorUnit val="2"/>
      </c:valAx>
      <c:valAx>
        <c:axId val="6038623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21441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6668514"/>
        <c:axId val="83233535"/>
      </c:scatterChart>
      <c:valAx>
        <c:axId val="8666851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233535"/>
        <c:crosses val="autoZero"/>
        <c:crossBetween val="midCat"/>
        <c:majorUnit val="2"/>
      </c:valAx>
      <c:valAx>
        <c:axId val="8323353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666851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34144540"/>
        <c:axId val="64438346"/>
      </c:scatterChart>
      <c:valAx>
        <c:axId val="3414454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438346"/>
        <c:crosses val="autoZero"/>
        <c:crossBetween val="midCat"/>
        <c:majorUnit val="2"/>
        <c:minorUnit val="0.05"/>
      </c:valAx>
      <c:valAx>
        <c:axId val="6443834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14454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2745A6-AF58-4784-A900-5B8FF0EA7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BC7A80-EF6D-44CA-B04D-847F637CE49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64A6F3-D797-486C-B319-CCBFD060D4A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BFF046-D511-4794-9DB3-92FA9AA43C8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