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7668893"/>
        <c:axId val="77347068"/>
      </c:scatterChart>
      <c:valAx>
        <c:axId val="1766889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347068"/>
        <c:crosses val="autoZero"/>
        <c:crossBetween val="midCat"/>
        <c:majorUnit val="1"/>
      </c:valAx>
      <c:valAx>
        <c:axId val="77347068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66889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2967719"/>
        <c:axId val="73728559"/>
      </c:scatterChart>
      <c:valAx>
        <c:axId val="7296771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728559"/>
        <c:crosses val="autoZero"/>
        <c:crossBetween val="midCat"/>
        <c:majorUnit val="1"/>
      </c:valAx>
      <c:valAx>
        <c:axId val="7372855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96771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5262411"/>
        <c:axId val="60411243"/>
      </c:scatterChart>
      <c:valAx>
        <c:axId val="5262411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0411243"/>
        <c:crosses val="autoZero"/>
        <c:crossBetween val="midCat"/>
        <c:majorUnit val="2"/>
        <c:minorUnit val="1"/>
      </c:valAx>
      <c:valAx>
        <c:axId val="6041124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262411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13741021"/>
        <c:axId val="95313435"/>
      </c:scatterChart>
      <c:valAx>
        <c:axId val="137410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313435"/>
        <c:crosses val="autoZero"/>
        <c:crossBetween val="midCat"/>
        <c:majorUnit val="2"/>
        <c:minorUnit val="0.05"/>
      </c:valAx>
      <c:valAx>
        <c:axId val="9531343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74102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7665668"/>
        <c:axId val="90544750"/>
      </c:scatterChart>
      <c:valAx>
        <c:axId val="9766566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544750"/>
        <c:crosses val="autoZero"/>
        <c:crossBetween val="midCat"/>
        <c:majorUnit val="2"/>
        <c:minorUnit val="0.05"/>
      </c:valAx>
      <c:valAx>
        <c:axId val="9054475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66566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1462406"/>
        <c:axId val="55411240"/>
      </c:scatterChart>
      <c:valAx>
        <c:axId val="4146240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5411240"/>
        <c:crosses val="autoZero"/>
        <c:crossBetween val="midCat"/>
        <c:majorUnit val="2"/>
        <c:minorUnit val="0.05"/>
      </c:valAx>
      <c:valAx>
        <c:axId val="5541124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46240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2486158"/>
        <c:axId val="32187932"/>
      </c:scatterChart>
      <c:valAx>
        <c:axId val="4248615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187932"/>
        <c:crosses val="autoZero"/>
        <c:crossBetween val="midCat"/>
        <c:majorUnit val="2"/>
      </c:valAx>
      <c:valAx>
        <c:axId val="3218793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48615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5561133"/>
        <c:axId val="76252874"/>
      </c:scatterChart>
      <c:valAx>
        <c:axId val="1556113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252874"/>
        <c:crosses val="autoZero"/>
        <c:crossBetween val="midCat"/>
        <c:majorUnit val="2"/>
      </c:valAx>
      <c:valAx>
        <c:axId val="7625287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56113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3314375"/>
        <c:axId val="20104206"/>
      </c:scatterChart>
      <c:valAx>
        <c:axId val="4331437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104206"/>
        <c:crosses val="autoZero"/>
        <c:crossBetween val="midCat"/>
        <c:majorUnit val="2"/>
        <c:minorUnit val="0.05"/>
      </c:valAx>
      <c:valAx>
        <c:axId val="2010420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31437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B1C40B-1E94-463E-BE8F-C9BC00491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D2F808-E606-4B60-9BA4-8A9C8A8D211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27E9F9-C939-4E7D-ADE9-4386F2EB402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780F3C-4A67-41B7-8116-16AB7944B7B2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