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212260"/>
        <c:axId val="27852132"/>
      </c:scatterChart>
      <c:valAx>
        <c:axId val="721226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852132"/>
        <c:crosses val="autoZero"/>
        <c:crossBetween val="midCat"/>
        <c:majorUnit val="1"/>
      </c:valAx>
      <c:valAx>
        <c:axId val="27852132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1226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333068"/>
        <c:axId val="33574169"/>
      </c:scatterChart>
      <c:valAx>
        <c:axId val="633306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3574169"/>
        <c:crosses val="autoZero"/>
        <c:crossBetween val="midCat"/>
        <c:majorUnit val="1"/>
      </c:valAx>
      <c:valAx>
        <c:axId val="3357416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3306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7697799"/>
        <c:axId val="40599733"/>
      </c:scatterChart>
      <c:valAx>
        <c:axId val="7697799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0599733"/>
        <c:crosses val="autoZero"/>
        <c:crossBetween val="midCat"/>
        <c:majorUnit val="2"/>
        <c:minorUnit val="1"/>
      </c:valAx>
      <c:valAx>
        <c:axId val="4059973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7697799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30850810"/>
        <c:axId val="26168538"/>
      </c:scatterChart>
      <c:valAx>
        <c:axId val="3085081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168538"/>
        <c:crosses val="autoZero"/>
        <c:crossBetween val="midCat"/>
        <c:majorUnit val="2"/>
        <c:minorUnit val="0.05"/>
      </c:valAx>
      <c:valAx>
        <c:axId val="261685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85081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3249605"/>
        <c:axId val="75976100"/>
      </c:scatterChart>
      <c:valAx>
        <c:axId val="32496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5976100"/>
        <c:crosses val="autoZero"/>
        <c:crossBetween val="midCat"/>
        <c:majorUnit val="2"/>
        <c:minorUnit val="0.05"/>
      </c:valAx>
      <c:valAx>
        <c:axId val="7597610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24960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016108"/>
        <c:axId val="26322101"/>
      </c:scatterChart>
      <c:valAx>
        <c:axId val="701610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6322101"/>
        <c:crosses val="autoZero"/>
        <c:crossBetween val="midCat"/>
        <c:majorUnit val="2"/>
        <c:minorUnit val="0.05"/>
      </c:valAx>
      <c:valAx>
        <c:axId val="2632210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01610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2327105"/>
        <c:axId val="57037159"/>
      </c:scatterChart>
      <c:valAx>
        <c:axId val="6232710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037159"/>
        <c:crosses val="autoZero"/>
        <c:crossBetween val="midCat"/>
        <c:majorUnit val="2"/>
      </c:valAx>
      <c:valAx>
        <c:axId val="57037159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232710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5444434"/>
        <c:axId val="49479825"/>
      </c:scatterChart>
      <c:valAx>
        <c:axId val="1544443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9479825"/>
        <c:crosses val="autoZero"/>
        <c:crossBetween val="midCat"/>
        <c:majorUnit val="2"/>
      </c:valAx>
      <c:valAx>
        <c:axId val="49479825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44443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46315376"/>
        <c:axId val="13840766"/>
      </c:scatterChart>
      <c:valAx>
        <c:axId val="463153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840766"/>
        <c:crosses val="autoZero"/>
        <c:crossBetween val="midCat"/>
        <c:majorUnit val="2"/>
        <c:minorUnit val="0.05"/>
      </c:valAx>
      <c:valAx>
        <c:axId val="13840766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631537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FA83D7-956F-499F-BD80-083F4248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E5A29-6140-4DAE-8C8B-CB780F54783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04DC50-2D3E-45ED-B33B-D55B9F0EB2D3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DB02BE-4539-47F7-9821-9D437F0C5F24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